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85F4F-D56E-4214-8419-E4C204B52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1BD0-2BA3-440C-AFF4-7544F45EF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093B8-8434-4D7F-8950-8EA38D4C6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3FCA1-C041-4AAB-B9F6-79186B164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CC674-8BE8-43A1-88A4-B45AC90BE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68FAF-5AD5-4CDF-9306-D695E410A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41F4-CA8B-43E2-88A9-E2675118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E846-F222-49A6-88EB-2D7CDCBC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1991-B665-46A6-B063-EC6044FC5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0CAC-972E-4852-85B0-61E889B1A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4E71-15D6-4E01-B469-D9E2F8CAC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1B90-11D2-4D7E-BAA8-579A8BC63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B1D5-44CD-4A90-A69A-9B6EA07F0489}" type="slidenum">
              <a:rPr b="0" lang="pl-PL"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676520"/>
            <a:ext cx="85690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Kontrola dawek indywidualnych</a:t>
            </a:r>
            <a:endParaRPr b="0" lang="en-US" sz="4000" spc="-1" strike="noStrike">
              <a:solidFill>
                <a:srgbClr val="e5ffff"/>
              </a:solidFill>
              <a:latin typeface="Tahoma"/>
            </a:endParaRPr>
          </a:p>
        </p:txBody>
      </p:sp>
      <p:sp>
        <p:nvSpPr>
          <p:cNvPr id="42" name="PlaceHolder 2"/>
          <p:cNvSpPr>
            <a:spLocks noGrp="1"/>
          </p:cNvSpPr>
          <p:nvPr>
            <p:ph type="subTitle"/>
          </p:nvPr>
        </p:nvSpPr>
        <p:spPr>
          <a:xfrm>
            <a:off x="3809520" y="5099040"/>
            <a:ext cx="533412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r inż.</a:t>
            </a:r>
            <a:r>
              <a:rPr b="0" lang="pl-PL" sz="2000" spc="-1" strike="noStrike">
                <a:solidFill>
                  <a:srgbClr val="ffffff"/>
                </a:solidFill>
                <a:latin typeface="Times New Roman"/>
              </a:rPr>
              <a:t> </a:t>
            </a:r>
            <a:r>
              <a:rPr b="0" lang="pl-PL" sz="2000" spc="-1" strike="noStrike">
                <a:solidFill>
                  <a:srgbClr val="ffffff"/>
                </a:solidFill>
                <a:latin typeface="Tahoma"/>
              </a:rPr>
              <a:t>Krzysztof Wojciech Fornalski</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krzysztof.fornalski@gmail.com</a:t>
            </a:r>
            <a:endParaRPr b="0" lang="en-US" sz="2000" spc="-1" strike="noStrike">
              <a:solidFill>
                <a:srgbClr val="ffffff"/>
              </a:solidFill>
              <a:latin typeface="Tahoma"/>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ymbol zastępczy stopki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4"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FB5B-70FE-42F3-A1F4-EC21A48F0B4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datkowe limity w rentgenodiagnostyce medycznej</a:t>
            </a:r>
            <a:endParaRPr b="0" lang="en-US" sz="4400" spc="-1" strike="noStrike">
              <a:solidFill>
                <a:srgbClr val="e5ffff"/>
              </a:solidFill>
              <a:latin typeface="Tahoma"/>
            </a:endParaRPr>
          </a:p>
        </p:txBody>
      </p:sp>
      <p:sp>
        <p:nvSpPr>
          <p:cNvPr id="76" name=""/>
          <p:cNvSpPr txBox="1"/>
          <p:nvPr/>
        </p:nvSpPr>
        <p:spPr>
          <a:xfrm>
            <a:off x="457200" y="1981080"/>
            <a:ext cx="8229600" cy="4114800"/>
          </a:xfrm>
          <a:prstGeom prst="rect">
            <a:avLst/>
          </a:prstGeom>
          <a:noFill/>
          <a:ln w="0">
            <a:noFill/>
          </a:ln>
        </p:spPr>
        <p:txBody>
          <a:bodyPr anchor="t">
            <a:normAutofit fontScale="88000"/>
          </a:bodyPr>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acownicy gabinetu rentgenowskiego nie mogą otrzymać więcej niż:</a:t>
            </a:r>
            <a:endParaRPr b="0" lang="en-US" sz="32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6 mSv/rok </a:t>
            </a:r>
            <a:r>
              <a:rPr b="0" lang="pl-PL" sz="2800" spc="-1" strike="noStrike">
                <a:solidFill>
                  <a:srgbClr val="ffffff"/>
                </a:solidFill>
                <a:latin typeface="Tahoma"/>
              </a:rPr>
              <a:t>w gabinecie (tam, gdzie aparat!)</a:t>
            </a:r>
            <a:endParaRPr b="0" lang="en-US" sz="28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3 mSv/rok </a:t>
            </a:r>
            <a:r>
              <a:rPr b="0" lang="pl-PL" sz="2800" spc="-1" strike="noStrike">
                <a:solidFill>
                  <a:srgbClr val="ffffff"/>
                </a:solidFill>
                <a:latin typeface="Tahoma"/>
              </a:rPr>
              <a:t>w pracowni, ale poza gabinetem</a:t>
            </a:r>
            <a:endParaRPr b="0" lang="en-US" sz="28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0,5 mSv/rok </a:t>
            </a:r>
            <a:r>
              <a:rPr b="0" lang="pl-PL" sz="2800" spc="-1" strike="noStrike">
                <a:solidFill>
                  <a:srgbClr val="ffffff"/>
                </a:solidFill>
                <a:latin typeface="Tahoma"/>
              </a:rPr>
              <a:t>poza pracownią</a:t>
            </a:r>
            <a:endParaRPr b="0" lang="en-US" sz="28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Osoby z ogółu ludności: </a:t>
            </a:r>
            <a:endParaRPr b="0" lang="en-US" sz="32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0,5 mSv/rok </a:t>
            </a:r>
            <a:r>
              <a:rPr b="0" lang="pl-PL" sz="2800" spc="-1" strike="noStrike">
                <a:solidFill>
                  <a:srgbClr val="ffffff"/>
                </a:solidFill>
                <a:latin typeface="Tahoma"/>
              </a:rPr>
              <a:t>poza pracownią</a:t>
            </a:r>
            <a:endParaRPr b="0" lang="en-US" sz="28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0,1 mSv/rok </a:t>
            </a:r>
            <a:r>
              <a:rPr b="0" lang="pl-PL" sz="2800" spc="-1" strike="noStrike">
                <a:solidFill>
                  <a:srgbClr val="ffffff"/>
                </a:solidFill>
                <a:latin typeface="Tahoma"/>
              </a:rPr>
              <a:t>poza pracownią, gdy budynek jest mieszkalny!</a:t>
            </a:r>
            <a:endParaRPr b="0" lang="en-US" sz="2800" spc="-1" strike="noStrike">
              <a:solidFill>
                <a:srgbClr val="ffffff"/>
              </a:solidFill>
              <a:latin typeface="Tahoma"/>
            </a:endParaRPr>
          </a:p>
        </p:txBody>
      </p:sp>
      <p:sp>
        <p:nvSpPr>
          <p:cNvPr id="7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3298-CF5F-4479-BD9F-56711F77A64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0"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DCAC-0CE3-4514-8416-914B3CE6059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amiętajmy!</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awki graniczne </a:t>
            </a:r>
            <a:r>
              <a:rPr b="0" lang="pl-PL" sz="3200" spc="-1" strike="noStrike">
                <a:solidFill>
                  <a:srgbClr val="ff0000"/>
                </a:solidFill>
                <a:latin typeface="Tahoma"/>
              </a:rPr>
              <a:t>nie</a:t>
            </a:r>
            <a:r>
              <a:rPr b="0" lang="pl-PL" sz="3200" spc="-1" strike="noStrike">
                <a:solidFill>
                  <a:srgbClr val="ffffff"/>
                </a:solidFill>
                <a:latin typeface="Tahoma"/>
              </a:rPr>
              <a:t> odnoszą się do </a:t>
            </a:r>
            <a:r>
              <a:rPr b="0" lang="pl-PL" sz="3200" spc="-1" strike="noStrike" u="sng">
                <a:solidFill>
                  <a:srgbClr val="ffffff"/>
                </a:solidFill>
                <a:uFillTx/>
                <a:latin typeface="Tahoma"/>
              </a:rPr>
              <a:t>promieniowania naturalnego</a:t>
            </a:r>
            <a:r>
              <a:rPr b="0" lang="pl-PL" sz="3200" spc="-1" strike="noStrike">
                <a:solidFill>
                  <a:srgbClr val="ffffff"/>
                </a:solidFill>
                <a:latin typeface="Tahoma"/>
              </a:rPr>
              <a:t> </a:t>
            </a:r>
            <a:br>
              <a:rPr sz="3200"/>
            </a:br>
            <a:r>
              <a:rPr b="0" lang="pl-PL" sz="2000" spc="-1" strike="noStrike">
                <a:solidFill>
                  <a:srgbClr val="ffffff"/>
                </a:solidFill>
                <a:latin typeface="Tahoma"/>
              </a:rPr>
              <a:t>(chyba, że zostało sztucznie zwiększone działalnością człowieka)</a:t>
            </a:r>
            <a:endParaRPr b="0" lang="en-US" sz="2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awki graniczne </a:t>
            </a:r>
            <a:r>
              <a:rPr b="0" lang="pl-PL" sz="3200" spc="-1" strike="noStrike">
                <a:solidFill>
                  <a:srgbClr val="ff0000"/>
                </a:solidFill>
                <a:latin typeface="Tahoma"/>
              </a:rPr>
              <a:t>nie</a:t>
            </a:r>
            <a:r>
              <a:rPr b="0" lang="pl-PL" sz="3200" spc="-1" strike="noStrike">
                <a:solidFill>
                  <a:srgbClr val="ffffff"/>
                </a:solidFill>
                <a:latin typeface="Tahoma"/>
              </a:rPr>
              <a:t> odnoszą się do dawek otrzymywanych w wyniku </a:t>
            </a:r>
            <a:r>
              <a:rPr b="0" lang="pl-PL" sz="3200" spc="-1" strike="noStrike" u="sng">
                <a:solidFill>
                  <a:srgbClr val="ffffff"/>
                </a:solidFill>
                <a:uFillTx/>
                <a:latin typeface="Tahoma"/>
              </a:rPr>
              <a:t>procedur medycznych</a:t>
            </a:r>
            <a:r>
              <a:rPr b="0" lang="pl-PL" sz="3200" spc="-1" strike="noStrike">
                <a:solidFill>
                  <a:srgbClr val="ffffff"/>
                </a:solidFill>
                <a:latin typeface="Tahoma"/>
              </a:rPr>
              <a:t> (gdy jesteśmy pacjentami)</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Gdy jesteśmy pracownikami – </a:t>
            </a:r>
            <a:r>
              <a:rPr b="0" lang="pl-PL" sz="3200" spc="-1" strike="noStrike">
                <a:solidFill>
                  <a:srgbClr val="ff0000"/>
                </a:solidFill>
                <a:latin typeface="Tahoma"/>
              </a:rPr>
              <a:t>już tak!</a:t>
            </a:r>
            <a:endParaRPr b="0" lang="en-US" sz="3200" spc="-1" strike="noStrike">
              <a:solidFill>
                <a:srgbClr val="ffffff"/>
              </a:solidFill>
              <a:latin typeface="Tahoma"/>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ntrola dozymetryczna pracowników</a:t>
            </a:r>
            <a:endParaRPr b="0" lang="en-US" sz="4400" spc="-1" strike="noStrike">
              <a:solidFill>
                <a:srgbClr val="e5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ff"/>
              </a:solidFill>
              <a:latin typeface="Tahoma"/>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6"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E076-A7F2-4299-842B-F9FF70E46C3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ntrola dozymetryczna</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Zasadniczo na podstawie noszonego dozymetru ocenia się </a:t>
            </a:r>
            <a:r>
              <a:rPr b="0" lang="pl-PL" sz="2800" spc="-1" strike="noStrike" u="sng">
                <a:solidFill>
                  <a:srgbClr val="ffffff"/>
                </a:solidFill>
                <a:uFillTx/>
                <a:latin typeface="Tahoma"/>
              </a:rPr>
              <a:t>dawkę skuteczną raz na kwarta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zazwyczaj TLD, OSL lub dozymetr fotometryczny (zwany fotodozymetrem </a:t>
            </a:r>
            <a:br>
              <a:rPr sz="2800"/>
            </a:br>
            <a:r>
              <a:rPr b="0" lang="pl-PL" sz="2800" spc="-1" strike="noStrike">
                <a:solidFill>
                  <a:srgbClr val="ffffff"/>
                </a:solidFill>
                <a:latin typeface="Tahoma"/>
              </a:rPr>
              <a:t>lub „fotofilmem”) nosi się na sercu, </a:t>
            </a:r>
            <a:br>
              <a:rPr sz="2800"/>
            </a:br>
            <a:r>
              <a:rPr b="0" lang="pl-PL" sz="2800" spc="-1" strike="noStrike">
                <a:solidFill>
                  <a:srgbClr val="ff0000"/>
                </a:solidFill>
                <a:latin typeface="Tahoma"/>
              </a:rPr>
              <a:t>pod fartuchem i osłonami</a:t>
            </a:r>
            <a:r>
              <a:rPr b="0" lang="pl-P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Ważne jest, którą stroną się go nosi </a:t>
            </a:r>
            <a:br>
              <a:rPr sz="2800"/>
            </a:br>
            <a:r>
              <a:rPr b="0" lang="pl-PL" sz="2800" spc="-1" strike="noStrike">
                <a:solidFill>
                  <a:srgbClr val="ffffff"/>
                </a:solidFill>
                <a:latin typeface="Tahoma"/>
              </a:rPr>
              <a:t>(nie zawsze)</a:t>
            </a:r>
            <a:endParaRPr b="0" lang="en-US" sz="2800" spc="-1" strike="noStrike">
              <a:solidFill>
                <a:srgbClr val="ffffff"/>
              </a:solidFill>
              <a:latin typeface="Tahoma"/>
            </a:endParaRPr>
          </a:p>
        </p:txBody>
      </p:sp>
      <p:pic>
        <p:nvPicPr>
          <p:cNvPr id="89" name="Picture 5" descr="File:Dosimeter.gif"/>
          <p:cNvPicPr/>
          <p:nvPr/>
        </p:nvPicPr>
        <p:blipFill>
          <a:blip r:embed="rId1"/>
          <a:stretch/>
        </p:blipFill>
        <p:spPr>
          <a:xfrm>
            <a:off x="7750080" y="3360600"/>
            <a:ext cx="1393920" cy="349740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1"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DF87-141A-4672-869B-656D5DF8D48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równoważne</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awki na oczy: dozymetry u nasady okularów</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awki na dłonie: dozymetry w formie bransolet oraz pierścionków</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awki na nogi: dozymetry w formie opasek na nogi/stopy</a:t>
            </a:r>
            <a:endParaRPr b="0" lang="en-US" sz="2800" spc="-1" strike="noStrike">
              <a:solidFill>
                <a:srgbClr val="ffffff"/>
              </a:solidFill>
              <a:latin typeface="Tahoma"/>
            </a:endParaRPr>
          </a:p>
        </p:txBody>
      </p:sp>
      <p:pic>
        <p:nvPicPr>
          <p:cNvPr id="94" name="Picture 5" descr="Plik:Dosimétre TLD Bague FLi IRSN.JPG"/>
          <p:cNvPicPr/>
          <p:nvPr/>
        </p:nvPicPr>
        <p:blipFill>
          <a:blip r:embed="rId1"/>
          <a:stretch/>
        </p:blipFill>
        <p:spPr>
          <a:xfrm>
            <a:off x="4343400" y="4157640"/>
            <a:ext cx="4800600" cy="2700360"/>
          </a:xfrm>
          <a:prstGeom prst="rect">
            <a:avLst/>
          </a:prstGeom>
          <a:ln w="0">
            <a:noFill/>
          </a:ln>
        </p:spPr>
      </p:pic>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6"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4093-B905-4074-9095-8C60DAFDFB2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dczyty dozymetrów</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asadniczo raz na kwartał, w niektórych przypadkach raz na miesiąc</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Odczytu dokonuje akredytowane laboratoriu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Inspektor ochrony radiologicznej może jedynie dokonać wstępnej </a:t>
            </a:r>
            <a:r>
              <a:rPr b="0" lang="pl-PL" sz="3200" spc="-1" strike="noStrike">
                <a:solidFill>
                  <a:srgbClr val="ff0000"/>
                </a:solidFill>
                <a:latin typeface="Tahoma"/>
              </a:rPr>
              <a:t>operacyjnej oceny dawki</a:t>
            </a:r>
            <a:r>
              <a:rPr b="0" lang="pl-PL" sz="3200" spc="-1" strike="noStrike">
                <a:solidFill>
                  <a:srgbClr val="ffffff"/>
                </a:solidFill>
                <a:latin typeface="Tahoma"/>
              </a:rPr>
              <a:t>, która nie ma mocy prawnej</a:t>
            </a:r>
            <a:endParaRPr b="0" lang="en-US" sz="3200" spc="-1" strike="noStrike">
              <a:solidFill>
                <a:srgbClr val="ffffff"/>
              </a:solidFill>
              <a:latin typeface="Tahoma"/>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00"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6D5F-98B2-4F9A-877E-B2A663C41A8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kumentacja</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ażdy pracownik powinien posiadać kartę (ewidencję) otrzymanych dawek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kumenty z odczytami z akredytowanego laboratorium</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Za stan odpowiada </a:t>
            </a:r>
            <a:r>
              <a:rPr b="0" lang="pl-PL" sz="2800" spc="-1" strike="noStrike" u="sng">
                <a:solidFill>
                  <a:srgbClr val="ffffff"/>
                </a:solidFill>
                <a:uFillTx/>
                <a:latin typeface="Tahoma"/>
              </a:rPr>
              <a:t>kierownik jednostki organizacyjnej</a:t>
            </a:r>
            <a:r>
              <a:rPr b="0" lang="pl-PL" sz="2800" spc="-1" strike="noStrike">
                <a:solidFill>
                  <a:srgbClr val="ffffff"/>
                </a:solidFill>
                <a:latin typeface="Tahoma"/>
              </a:rPr>
              <a:t>, a wewnętrznie nadzoruje inspektor ochrony radiologicznej</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Centralny Rejestr Dawek PAA</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aszport Dozymetryczny</a:t>
            </a:r>
            <a:endParaRPr b="0" lang="en-US" sz="2800" spc="-1" strike="noStrike">
              <a:solidFill>
                <a:srgbClr val="ffffff"/>
              </a:solidFill>
              <a:latin typeface="Tahoma"/>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421000"/>
            <a:ext cx="8353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0000"/>
                </a:solidFill>
                <a:latin typeface="Tahoma"/>
              </a:rPr>
              <a:t>Rozporządzenie Rady Ministrów</a:t>
            </a:r>
            <a:br>
              <a:rPr sz="4400"/>
            </a:br>
            <a:r>
              <a:rPr b="0" i="1" lang="pl-PL" sz="4400" spc="-1" strike="noStrike">
                <a:solidFill>
                  <a:srgbClr val="ff0000"/>
                </a:solidFill>
                <a:latin typeface="Tahoma"/>
              </a:rPr>
              <a:t>w sprawie wymagań dotyczących rejestracji dawek indywidualnych</a:t>
            </a:r>
            <a:br>
              <a:rPr sz="4400"/>
            </a:br>
            <a:endParaRPr b="0" lang="en-US" sz="4400" spc="-1" strike="noStrike">
              <a:solidFill>
                <a:srgbClr val="e5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ff"/>
              </a:solidFill>
              <a:latin typeface="Tahoma"/>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06"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 3. 1. Rejestracja dawek indywidualnych otrzymywanych przez pracowników kategorii A jest dokonywana w </a:t>
            </a:r>
            <a:r>
              <a:rPr b="0" lang="pl-PL" sz="1800" spc="-1" strike="noStrike">
                <a:solidFill>
                  <a:srgbClr val="ff0000"/>
                </a:solidFill>
                <a:latin typeface="Tahoma"/>
              </a:rPr>
              <a:t>rejestrze</a:t>
            </a:r>
            <a:r>
              <a:rPr b="0" lang="pl-PL" sz="1800" spc="-1" strike="noStrike">
                <a:solidFill>
                  <a:srgbClr val="ffffff"/>
                </a:solidFill>
                <a:latin typeface="Tahoma"/>
              </a:rPr>
              <a:t>, który obejmuje następujące dane:</a:t>
            </a:r>
            <a:endParaRPr b="0" lang="en-US" sz="18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1) nazwisko, imiona, (...)</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2) informację o rodzaju pracy wykonywanej przez pracownika w okresie rejestracyjnym;</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3) uzyskaną z centralnego rejestru dawek informację o dawce skutecznej (efektywnej) otrzymanej przez pracownika przed zatrudnieniem w warunkach narażenia w jednostce organizacyjnej, z wyodrębnieniem dawek otrzymanych w ostatnich </a:t>
            </a:r>
            <a:r>
              <a:rPr b="0" lang="pl-PL" sz="1400" spc="-1" strike="noStrike">
                <a:solidFill>
                  <a:srgbClr val="ff0000"/>
                </a:solidFill>
                <a:latin typeface="Tahoma"/>
              </a:rPr>
              <a:t>4 latach </a:t>
            </a:r>
            <a:r>
              <a:rPr b="0" lang="pl-PL" sz="1400" spc="-1" strike="noStrike">
                <a:solidFill>
                  <a:srgbClr val="ffffff"/>
                </a:solidFill>
                <a:latin typeface="Tahoma"/>
              </a:rPr>
              <a:t>kalendarzowych;</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4) wyniki pomiarów dozymetrycznych stanowiących podstawę oceny dawki skutecznej (efektywnej) w okresie rejestracyjnym wraz z informacją o stosowanych metodach pomiarowych oraz o podmiocie dokonującym pomiarów;</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5) ocenę dawki skutecznej (efektywnej), w tym skutecznej dawki obciążającej, a także, w zależności od rodzaju pracy wykonywanej przez pracownika, dawek równoważnych dla soczewek oczu, skóry oraz dłoni, przedramion, stóp i podudzi, otrzymanych przez pracownika w okresie rejestracyjnym, wraz z informacją o podstawie oceny;</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6) informację o okolicznościach, w jakich powstało narażenie:</a:t>
            </a:r>
            <a:endParaRPr b="0" lang="en-US" sz="14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a) w wyniku wykonywania przez pracownika rutynowych czynności,</a:t>
            </a:r>
            <a:endParaRPr b="0" lang="en-US" sz="9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b) w przypadku, o którym mowa w art. 16 ust. 1 ustawy,</a:t>
            </a:r>
            <a:endParaRPr b="0" lang="en-US" sz="9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c) w szczególnych przypadkach, o których mowa w art. 19 ust. 1 ustawy,</a:t>
            </a:r>
            <a:endParaRPr b="0" lang="en-US" sz="9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d) na skutek narażenia wyjątkowego, o którym mowa w art. 20 ust. 1 ustawy.</a:t>
            </a:r>
            <a:endParaRPr b="0" lang="en-US" sz="900" spc="-1" strike="noStrike">
              <a:solidFill>
                <a:srgbClr val="ffffff"/>
              </a:solidFill>
              <a:latin typeface="Tahoma"/>
            </a:endParaRPr>
          </a:p>
        </p:txBody>
      </p:sp>
      <p:sp>
        <p:nvSpPr>
          <p:cNvPr id="10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C44B-E42F-41B7-9CFB-9DD1CAC4053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09" name=""/>
          <p:cNvSpPr txBox="1"/>
          <p:nvPr/>
        </p:nvSpPr>
        <p:spPr>
          <a:xfrm>
            <a:off x="457200" y="1981080"/>
            <a:ext cx="8229600" cy="4114800"/>
          </a:xfrm>
          <a:prstGeom prst="rect">
            <a:avLst/>
          </a:prstGeom>
          <a:noFill/>
          <a:ln w="0">
            <a:noFill/>
          </a:ln>
        </p:spPr>
        <p:txBody>
          <a:bodyPr anchor="t">
            <a:normAutofit fontScale="91000"/>
          </a:bodyPr>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2. Okres rejestracyjny obejmuje rok kalendarzowy, z tym że kierownik jednostki organizacyjnej może, w zależności od rodzaju pracy wykonywanej przez pracownika, określić krótszy okres rejestracyjny.</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3. Jeżeli narażenia powstały w okolicznościach, o których mowa w ust. 1 pkt 6 lit. b-d, okresem rejestracyjnym jest okres narażenia.</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0000"/>
                </a:solidFill>
                <a:latin typeface="Tahoma"/>
              </a:rPr>
              <a:t>4. Dawek indywidualnych otrzymanych w okolicznościach, o których mowa w ust. 1 pkt 6 lit. a i b, nie sumuje się z dawkami indywidualnymi otrzymanymi w okolicznościach, o których mowa w ust. 1 pkt 6 lit. c i d.</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ahoma"/>
              </a:rPr>
              <a:t>§ 4</a:t>
            </a:r>
            <a:r>
              <a:rPr b="0" lang="pl-PL" sz="1600" spc="-1" strike="noStrike">
                <a:solidFill>
                  <a:srgbClr val="ffffff"/>
                </a:solidFill>
                <a:latin typeface="Tahoma"/>
              </a:rPr>
              <a:t>. 1. Rejestr dawek indywidualnych, o którym mowa w § 3, jest prowadzony w formie pisemnej lub elektronicznej księgi rejestrowej składającej się z kart ewidencyjnych odrębnych dla każdego pracownika.</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2. Karty ewidencyjne rejestru dawek indywidualnych obejmują dane określone w § 3 ust. 1.</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 5. Dane w rejestrze dawek indywidualnych oraz dokumenty stanowiące podstawę rejestracji przechowuje się do dnia osiągnięcia przez pracownika wieku 75 lat, jednak nie krócej niż przez okres 30 lat od dnia zakończenia przez niego pracy w warunkach narażenia w danej jednostce organizacyjnej.</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0"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1"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944-B2C2-4C19-B657-099F19CB140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1676520"/>
            <a:ext cx="84247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a:t>
            </a:r>
            <a:endParaRPr b="0" lang="en-US" sz="4400" spc="-1" strike="noStrike">
              <a:solidFill>
                <a:srgbClr val="e5ffff"/>
              </a:solidFill>
              <a:latin typeface="Tahoma"/>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ff"/>
              </a:solidFill>
              <a:latin typeface="Tahoma"/>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13" name=""/>
          <p:cNvSpPr txBox="1"/>
          <p:nvPr/>
        </p:nvSpPr>
        <p:spPr>
          <a:xfrm>
            <a:off x="457200" y="19810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 7. 1. Przepisy § 3-6 stosuje się odpowiednio do rejestracji dawek indywidualnych otrzymywanych przez pracowników kategorii B, </a:t>
            </a:r>
            <a:r>
              <a:rPr b="0" lang="pl-PL" sz="2000" spc="-1" strike="noStrike" u="sng">
                <a:solidFill>
                  <a:srgbClr val="ff0000"/>
                </a:solidFill>
                <a:uFillTx/>
                <a:latin typeface="Tahoma"/>
              </a:rPr>
              <a:t>jeżeli</a:t>
            </a:r>
            <a:r>
              <a:rPr b="0" lang="pl-PL" sz="2000" spc="-1" strike="noStrike">
                <a:solidFill>
                  <a:srgbClr val="ff0000"/>
                </a:solidFill>
                <a:latin typeface="Tahoma"/>
              </a:rPr>
              <a:t> zezwolenie na prowadzenie działalności związanej z narażeniem zawiera warunek prowadzenia oceny narażenia tych pracowników wykonujących prace określone w zezwoleniu na podstawie pomiarów dawek indywidualnych.</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2. Przepisy § 3 ust. 1 pkt 1, 4-6, ust. 2-4 oraz § 4-6 stosuje się odpowiednio do rejestracji dawek indywidualnych otrzymywanych przez inne osoby niż pracownicy kategorii A w sytuacji narażenia:</a:t>
            </a:r>
            <a:endParaRPr b="0" lang="en-US" sz="2000" spc="-1" strike="noStrike">
              <a:solidFill>
                <a:srgbClr val="ffffff"/>
              </a:solidFill>
              <a:latin typeface="Tahoma"/>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1)</a:t>
            </a:r>
            <a:r>
              <a:rPr b="0" lang="pl-PL" sz="1600" spc="-1" strike="noStrike">
                <a:solidFill>
                  <a:srgbClr val="ffffff"/>
                </a:solidFill>
                <a:latin typeface="Tahoma"/>
              </a:rPr>
              <a:t> </a:t>
            </a:r>
            <a:r>
              <a:rPr b="0" lang="pl-PL" sz="1600" spc="-1" strike="noStrike">
                <a:solidFill>
                  <a:srgbClr val="ffffff"/>
                </a:solidFill>
                <a:latin typeface="Tahoma"/>
              </a:rPr>
              <a:t>w przypadku, o którym mowa w art. 16 ust. 1 ustawy;</a:t>
            </a:r>
            <a:endParaRPr b="0" lang="en-US" sz="1600" spc="-1" strike="noStrike">
              <a:solidFill>
                <a:srgbClr val="ffffff"/>
              </a:solidFill>
              <a:latin typeface="Tahoma"/>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2)</a:t>
            </a:r>
            <a:r>
              <a:rPr b="0" lang="pl-PL" sz="1600" spc="-1" strike="noStrike">
                <a:solidFill>
                  <a:srgbClr val="ffffff"/>
                </a:solidFill>
                <a:latin typeface="Tahoma"/>
              </a:rPr>
              <a:t> </a:t>
            </a:r>
            <a:r>
              <a:rPr b="0" lang="pl-PL" sz="1600" spc="-1" strike="noStrike">
                <a:solidFill>
                  <a:srgbClr val="ffffff"/>
                </a:solidFill>
                <a:latin typeface="Tahoma"/>
              </a:rPr>
              <a:t>wyjątkowego, o którym mowa w art. 20 ustawy.</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4"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5"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EDF3-142A-4519-88B8-1EA3E8DED0F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380880"/>
            <a:ext cx="8642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17" name=""/>
          <p:cNvSpPr txBox="1"/>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 8. 1. Kierownik jednostki organizacyjnej przekazuje w terminie do dnia </a:t>
            </a:r>
            <a:r>
              <a:rPr b="0" lang="pl-PL" sz="1800" spc="-1" strike="noStrike">
                <a:solidFill>
                  <a:srgbClr val="ff0000"/>
                </a:solidFill>
                <a:latin typeface="Tahoma"/>
              </a:rPr>
              <a:t>15 kwietnia</a:t>
            </a:r>
            <a:r>
              <a:rPr b="0" lang="pl-PL" sz="1800" spc="-1" strike="noStrike">
                <a:solidFill>
                  <a:srgbClr val="ffffff"/>
                </a:solidFill>
                <a:latin typeface="Tahoma"/>
              </a:rPr>
              <a:t> roku następnego: </a:t>
            </a:r>
            <a:endParaRPr b="0" lang="en-US" sz="1800" spc="-1" strike="noStrike">
              <a:solidFill>
                <a:srgbClr val="ffffff"/>
              </a:solidFill>
              <a:latin typeface="Tahoma"/>
            </a:endParaRPr>
          </a:p>
          <a:p>
            <a:pPr lvl="1" marL="743040" indent="-28584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1)</a:t>
            </a:r>
            <a:r>
              <a:rPr b="0" lang="pl-PL" sz="1400" spc="-1" strike="noStrike">
                <a:solidFill>
                  <a:srgbClr val="ffffff"/>
                </a:solidFill>
                <a:latin typeface="Tahoma"/>
              </a:rPr>
              <a:t> </a:t>
            </a:r>
            <a:r>
              <a:rPr b="0" lang="pl-PL" sz="1400" spc="-1" strike="noStrike">
                <a:solidFill>
                  <a:srgbClr val="ffffff"/>
                </a:solidFill>
                <a:latin typeface="Tahoma"/>
              </a:rPr>
              <a:t>uprawnionemu lekarzowi prowadzącemu dokumentację medyczną pracowników kategorii A dane, o których mowa w § 3 ust. 1,</a:t>
            </a:r>
            <a:endParaRPr b="0" lang="en-US" sz="1400" spc="-1" strike="noStrike">
              <a:solidFill>
                <a:srgbClr val="ffffff"/>
              </a:solidFill>
              <a:latin typeface="Tahoma"/>
            </a:endParaRPr>
          </a:p>
          <a:p>
            <a:pPr lvl="1" marL="743040" indent="-28584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2)</a:t>
            </a:r>
            <a:r>
              <a:rPr b="0" lang="pl-PL" sz="1400" spc="-1" strike="noStrike">
                <a:solidFill>
                  <a:srgbClr val="ffffff"/>
                </a:solidFill>
                <a:latin typeface="Tahoma"/>
              </a:rPr>
              <a:t> </a:t>
            </a:r>
            <a:r>
              <a:rPr b="0" lang="pl-PL" sz="1400" spc="-1" strike="noStrike">
                <a:solidFill>
                  <a:srgbClr val="ffffff"/>
                </a:solidFill>
                <a:latin typeface="Tahoma"/>
              </a:rPr>
              <a:t>do centralnego rejestru dawek dane, o których mowa w § 3 ust. 1 pkt 1, 2, 5 i 6- dotyczące roku kalendarzowego poprzedzającego przekazanie. </a:t>
            </a:r>
            <a:endParaRPr b="0" lang="en-US" sz="14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2. Jeżeli praca w warunkach narażenia ustała przed upływem roku kalendarzowego, przekazanie danych, o którym mowa w ust. 1, następuje niezwłocznie po ustaniu tej pracy.</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4. W sytuacji gdy pracownik otrzymał w danym roku kalendarzowym dawkę skuteczną (efektywną) przekraczającą </a:t>
            </a:r>
            <a:r>
              <a:rPr b="0" lang="pl-PL" sz="1800" spc="-1" strike="noStrike">
                <a:solidFill>
                  <a:srgbClr val="ff0000"/>
                </a:solidFill>
                <a:latin typeface="Tahoma"/>
              </a:rPr>
              <a:t>15 milisiwertów</a:t>
            </a:r>
            <a:r>
              <a:rPr b="0" lang="pl-PL" sz="1800" spc="-1" strike="noStrike">
                <a:solidFill>
                  <a:srgbClr val="ffffff"/>
                </a:solidFill>
                <a:latin typeface="Tahoma"/>
              </a:rPr>
              <a:t> (mSv), </a:t>
            </a:r>
            <a:r>
              <a:rPr b="0" lang="pl-PL" sz="1800" spc="-1" strike="noStrike" u="sng">
                <a:solidFill>
                  <a:srgbClr val="ffffff"/>
                </a:solidFill>
                <a:uFillTx/>
                <a:latin typeface="Tahoma"/>
              </a:rPr>
              <a:t>kierownik jednostki organizacyjnej niezwłocznie przekazuje do centralnego rejestru dawek dane</a:t>
            </a:r>
            <a:r>
              <a:rPr b="0" lang="pl-PL" sz="1800" spc="-1" strike="noStrike">
                <a:solidFill>
                  <a:srgbClr val="ffffff"/>
                </a:solidFill>
                <a:latin typeface="Tahoma"/>
              </a:rPr>
              <a:t>, o których mowa w § 3 ust. 1 pkt 1, 2, 5 i 6.</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21EF-6F53-4F52-B44F-4DC83D73972C}"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Co z naturalnym tłem promieniowania?</a:t>
            </a:r>
            <a:endParaRPr b="0" lang="en-US" sz="4400" spc="-1" strike="noStrike">
              <a:solidFill>
                <a:srgbClr val="e5ffff"/>
              </a:solidFill>
              <a:latin typeface="Tahoma"/>
            </a:endParaRPr>
          </a:p>
        </p:txBody>
      </p:sp>
      <p:sp>
        <p:nvSpPr>
          <p:cNvPr id="121" name=""/>
          <p:cNvSpPr txBox="1"/>
          <p:nvPr/>
        </p:nvSpPr>
        <p:spPr>
          <a:xfrm>
            <a:off x="456840" y="1981080"/>
            <a:ext cx="843588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żdy dozymetr, w tym dozymetr osobisty, oprócz narażenia zawodowego mierzy także narażenie pochodzące od naturalnego tła promieniowani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Ostateczny wynik pomiaru jest więc wartością odczytaną z dozymetru pomniejszoną o wartość dawki naturalnego tł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Tło naturalne (dawkę) można oszacować:</a:t>
            </a:r>
            <a:endParaRPr b="0" lang="en-US" sz="24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danych istniejących (np. Radiologiczny Atlas Polski)</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odczytu dozymetru kontrolnego (rekomendowane)</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Gdy dane te nie są dostępne, przyjmuje się dla Polski roczną dawkę od tła naturalnego jako </a:t>
            </a:r>
            <a:r>
              <a:rPr b="0" lang="pl-PL" sz="2000" spc="-1" strike="noStrike">
                <a:solidFill>
                  <a:srgbClr val="ff0000"/>
                </a:solidFill>
                <a:latin typeface="Tahoma"/>
              </a:rPr>
              <a:t>2,4 mSv/rok</a:t>
            </a:r>
            <a:endParaRPr b="0" lang="en-US" sz="2000" spc="-1" strike="noStrike">
              <a:solidFill>
                <a:srgbClr val="ffffff"/>
              </a:solidFill>
              <a:latin typeface="Tahoma"/>
            </a:endParaRPr>
          </a:p>
        </p:txBody>
      </p:sp>
      <p:sp>
        <p:nvSpPr>
          <p:cNvPr id="122"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3"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1288-6D34-47F2-B966-CA4D8A5489D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 Prawo atomowe</a:t>
            </a:r>
            <a:endParaRPr b="0" lang="en-US" sz="4400" spc="-1" strike="noStrike">
              <a:solidFill>
                <a:srgbClr val="e5ffff"/>
              </a:solidFill>
              <a:latin typeface="Tahoma"/>
            </a:endParaRPr>
          </a:p>
        </p:txBody>
      </p:sp>
      <p:sp>
        <p:nvSpPr>
          <p:cNvPr id="125"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Art. 17 (raz jeszcze o kategorii A i B):</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5. W przypadku gdy pomiar dawki indywidualnej jest niemożliwy lub niewłaściwy, ocena dawki indywidualnej otrzymanej przez pracownika kategorii A może być dokonana na podstawie wyników pomiarów dawek indywidualnych przeprowadzonych dla innych narażonych pracowników tej kategorii albo na podstawie wyników pomiarów dozymetrycznych w środowisku pracy.</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6. Zaliczenia pracowników zatrudnionych w warunkach narażenia do kategorii A lub B dokonuje </a:t>
            </a:r>
            <a:r>
              <a:rPr b="0" lang="pl-PL" sz="1600" spc="-1" strike="noStrike" u="sng">
                <a:solidFill>
                  <a:srgbClr val="ffffff"/>
                </a:solidFill>
                <a:uFillTx/>
                <a:latin typeface="Tahoma"/>
              </a:rPr>
              <a:t>kierownik jednostki organizacyjnej</a:t>
            </a:r>
            <a:r>
              <a:rPr b="0" lang="pl-PL" sz="1600" spc="-1" strike="noStrike">
                <a:solidFill>
                  <a:srgbClr val="ffffff"/>
                </a:solidFill>
                <a:latin typeface="Tahoma"/>
              </a:rPr>
              <a:t>, w zależności od przewidywanego poziomu narażenia tych pracowników.</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7. Ze względu na zdolność do wykonywania pracy w grupie pracowników kategorii A ustala się następującą klasyfikację medyczną: zdolny, zdolny pod pewnymi warunkami, niezdolny.</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7a. Klasyfikacji medycznej pracownika kategorii A dokonuje uprawniony lekarz, który sprawuje </a:t>
            </a:r>
            <a:r>
              <a:rPr b="0" lang="pl-PL" sz="1600" spc="-1" strike="noStrike">
                <a:solidFill>
                  <a:srgbClr val="ff0000"/>
                </a:solidFill>
                <a:latin typeface="Tahoma"/>
              </a:rPr>
              <a:t>nadzór medyczny nad tym pracownikiem</a:t>
            </a:r>
            <a:r>
              <a:rPr b="0" lang="pl-PL" sz="1600" spc="-1" strike="noStrike">
                <a:solidFill>
                  <a:srgbClr val="ffffff"/>
                </a:solidFill>
                <a:latin typeface="Tahoma"/>
              </a:rPr>
              <a:t>.</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8. Pracownik nie może być zatrudniony na określonym stanowisku w kategorii A, jeżeli uprawniony lekarz wydał orzeczenie, że jest on niezdolny do wykonywania takiej pracy.</a:t>
            </a:r>
            <a:endParaRPr b="0" lang="en-US" sz="1600" spc="-1" strike="noStrike">
              <a:solidFill>
                <a:srgbClr val="ffffff"/>
              </a:solidFill>
              <a:latin typeface="Tahoma"/>
            </a:endParaRPr>
          </a:p>
        </p:txBody>
      </p:sp>
      <p:sp>
        <p:nvSpPr>
          <p:cNvPr id="126"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0F08-2DCA-43AD-8B63-B3A4943AB42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a:t>
            </a:r>
            <a:endParaRPr b="0" lang="en-US" sz="4400" spc="-1" strike="noStrike">
              <a:solidFill>
                <a:srgbClr val="e5ffff"/>
              </a:solidFill>
              <a:latin typeface="Tahoma"/>
            </a:endParaRPr>
          </a:p>
        </p:txBody>
      </p:sp>
      <p:sp>
        <p:nvSpPr>
          <p:cNvPr id="129"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Art. 30. 1. Za nadzór medyczny nad pracownikami kategorii A odpowiedzialny jest kierownik jednostki organizacyjnej oraz uprawniony lekarz, któremu zapewnia się dostęp do informacji niezbędnych do wydania orzeczenia o zdolności tych pracowników do wykonywania określonej pracy, łącznie z informacją o warunkach środowiskowych w miejscu pracy.</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2. Nadzór medyczny, o którym mowa w ust. 1, obejmuje wstępne badania lekarskie pracownika przed jego zatrudnieniem dla określenia, czy pracownik może być zatrudniony w kategorii A, oraz okresowe badania lekarskie przeprowadzane co najmniej raz w roku, które pozwalają stwierdzić, czy pracownik może nadal wykonywać swoje obowiązki.</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3. </a:t>
            </a:r>
            <a:r>
              <a:rPr b="0" lang="pl-PL" sz="1400" spc="-1" strike="noStrike">
                <a:solidFill>
                  <a:srgbClr val="ff0000"/>
                </a:solidFill>
                <a:latin typeface="Tahoma"/>
              </a:rPr>
              <a:t>Dla każdego pracownika kategorii A uprawniony lekarz zakłada dokumentację medyczną, prowadzoną i aktualizowaną przez cały okres zaliczenia do tej kategorii</a:t>
            </a:r>
            <a:r>
              <a:rPr b="0" lang="pl-PL" sz="1400" spc="-1" strike="noStrike">
                <a:solidFill>
                  <a:srgbClr val="ffffff"/>
                </a:solidFill>
                <a:latin typeface="Tahoma"/>
              </a:rPr>
              <a:t>. Dokumentacja jest przechowywana do dnia osiągnięcia przez pracownika wieku 75 lat, jednak nie krócej niż przez 30 lat od dnia zakończenia przez niego pracy w warunkach narażenia.</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4. Dokumentacja medyczna obejmuje informacje o rodzaju wykonywanej pracy, wynikach badań lekarskich przeprowadzonych przed podjęciem zatrudnienia w kategorii A i o wynikach badań okresowych oraz rejestr dawek, o którym mowa w art. 21 ust. 1.</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5. Po ustaniu zatrudnienia w warunkach narażenia uprawniony lekarz może zalecić kontynuację nadzoru medycznego, jeżeli uzna to za konieczne dla ochrony zdrowia pracownika.</a:t>
            </a:r>
            <a:endParaRPr b="0" lang="en-US" sz="1400" spc="-1" strike="noStrike">
              <a:solidFill>
                <a:srgbClr val="ffffff"/>
              </a:solidFill>
              <a:latin typeface="Tahoma"/>
            </a:endParaRPr>
          </a:p>
        </p:txBody>
      </p:sp>
      <p:sp>
        <p:nvSpPr>
          <p:cNvPr id="130"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1"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8EE8-295A-44A9-959B-9075469B4B6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a:t>
            </a:r>
            <a:endParaRPr b="0" lang="en-US" sz="4400" spc="-1" strike="noStrike">
              <a:solidFill>
                <a:srgbClr val="e5ffff"/>
              </a:solidFill>
              <a:latin typeface="Tahoma"/>
            </a:endParaRPr>
          </a:p>
        </p:txBody>
      </p:sp>
      <p:sp>
        <p:nvSpPr>
          <p:cNvPr id="133"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Art. 31. 1. W przypadku stwierdzonego przekroczenia którejkolwiek z dawek granicznych, określonych w przepisach wydanych na podstawie art. 25 pkt 1, kierownik jednostki organizacyjnej jest obowiązany skierować pracownika na badania lekarskie.</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ahoma"/>
              </a:rPr>
              <a:t>2. Dalsza praca w warunkach narażenia wymaga zgody uprawnionego lekarza.</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3. W przypadku braku zgody uprawnionego lekarza na dalsze zatrudnienie pracownika w warunkach narażenia stosuje się odpowiednio przepisy prawa pracy odnoszące się do pracownika, u którego stwierdzono objawy wskazujące na powstanie </a:t>
            </a:r>
            <a:r>
              <a:rPr b="0" lang="pl-PL" sz="2000" spc="-1" strike="noStrike" u="sng">
                <a:solidFill>
                  <a:srgbClr val="ffffff"/>
                </a:solidFill>
                <a:uFillTx/>
                <a:latin typeface="Tahoma"/>
              </a:rPr>
              <a:t>choroby zawodowej</a:t>
            </a:r>
            <a:r>
              <a:rPr b="0" lang="pl-PL" sz="2000" spc="-1" strike="noStrike">
                <a:solidFill>
                  <a:srgbClr val="ffffff"/>
                </a:solidFill>
                <a:latin typeface="Tahoma"/>
              </a:rPr>
              <a:t>.</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Art. 32. Od orzeczeń lekarskich, o których mowa w art. 17 ust. 7a i 8 oraz w art. 31 ust. 2, pracownikowi służy odwołanie do sądu pracy.</a:t>
            </a:r>
            <a:endParaRPr b="0" lang="en-US" sz="2000" spc="-1" strike="noStrike">
              <a:solidFill>
                <a:srgbClr val="ffffff"/>
              </a:solidFill>
              <a:latin typeface="Tahoma"/>
            </a:endParaRPr>
          </a:p>
        </p:txBody>
      </p:sp>
      <p:sp>
        <p:nvSpPr>
          <p:cNvPr id="134"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5"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3090-C200-4B74-86B7-B67EB56B5C2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a:t>
            </a:r>
            <a:endParaRPr b="0" lang="en-US" sz="4400" spc="-1" strike="noStrike">
              <a:solidFill>
                <a:srgbClr val="e5ffff"/>
              </a:solidFill>
              <a:latin typeface="Tahoma"/>
            </a:endParaRPr>
          </a:p>
        </p:txBody>
      </p:sp>
      <p:sp>
        <p:nvSpPr>
          <p:cNvPr id="137" name=""/>
          <p:cNvSpPr txBox="1"/>
          <p:nvPr/>
        </p:nvSpPr>
        <p:spPr>
          <a:xfrm>
            <a:off x="457200" y="1981080"/>
            <a:ext cx="8229600" cy="4114800"/>
          </a:xfrm>
          <a:prstGeom prst="rect">
            <a:avLst/>
          </a:prstGeom>
          <a:noFill/>
          <a:ln w="0">
            <a:noFill/>
          </a:ln>
        </p:spPr>
        <p:txBody>
          <a:bodyPr anchor="t">
            <a:normAutofit fontScale="91000"/>
          </a:bodyPr>
          <a:p>
            <a:pPr marL="312120" indent="-3121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Art. 33c. (...) 5. Osoby wykonujące i nadzorujące wykonywanie badań i zabiegów leczniczych przy użyciu promieniowania jonizującego są obowiązane do podnoszenia swoich kwalifikacji z zakresu ochrony radiologicznej pacjenta poprzez ukończenie </a:t>
            </a:r>
            <a:r>
              <a:rPr b="0" lang="pl-PL" sz="2000" spc="-1" strike="noStrike">
                <a:solidFill>
                  <a:srgbClr val="ff0000"/>
                </a:solidFill>
                <a:latin typeface="Tahoma"/>
              </a:rPr>
              <a:t>szkolenia w dziedzinie ochrony radiologicznej pacjenta</a:t>
            </a:r>
            <a:r>
              <a:rPr b="0" lang="pl-PL" sz="2000" spc="-1" strike="noStrike">
                <a:solidFill>
                  <a:srgbClr val="ffffff"/>
                </a:solidFill>
                <a:latin typeface="Tahoma"/>
              </a:rPr>
              <a:t>, zdanie egzaminu i uzyskanie certyfikatu potwierdzającego jego zdanie.</a:t>
            </a:r>
            <a:endParaRPr b="0" lang="en-US" sz="2000" spc="-1" strike="noStrike">
              <a:solidFill>
                <a:srgbClr val="ffffff"/>
              </a:solidFill>
              <a:latin typeface="Tahoma"/>
            </a:endParaRPr>
          </a:p>
          <a:p>
            <a:pPr marL="312120" indent="-3121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5c. Szkolenie, o którym mowa w ust. 5, kończy się egzaminem przed Komisją Egzaminacyjną powołaną przez Głównego Inspektora Sanitarnego spośród specjalistów z zakresu stosowania promieniowania jonizującego w medycynie i wydaniem certyfikatu potwierdzającego jego zdanie.</a:t>
            </a:r>
            <a:endParaRPr b="0" lang="en-US" sz="2000" spc="-1" strike="noStrike">
              <a:solidFill>
                <a:srgbClr val="ffffff"/>
              </a:solidFill>
              <a:latin typeface="Tahoma"/>
            </a:endParaRPr>
          </a:p>
          <a:p>
            <a:pPr marL="312120" indent="-3121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5d. Certyfikat, o którym mowa w ust. 5c, jest ważny przez okres </a:t>
            </a:r>
            <a:r>
              <a:rPr b="0" lang="pl-PL" sz="2000" spc="-1" strike="noStrike">
                <a:solidFill>
                  <a:srgbClr val="ff0000"/>
                </a:solidFill>
                <a:latin typeface="Tahoma"/>
              </a:rPr>
              <a:t>5 lat </a:t>
            </a:r>
            <a:r>
              <a:rPr b="0" lang="pl-PL" sz="2000" spc="-1" strike="noStrike">
                <a:solidFill>
                  <a:srgbClr val="ffffff"/>
                </a:solidFill>
                <a:latin typeface="Tahoma"/>
              </a:rPr>
              <a:t>od dnia jego wydania. Brak ważnego certyfikatu uniemożliwia wykonywanie prac, o których mowa w ust. 5.</a:t>
            </a:r>
            <a:endParaRPr b="0" lang="en-US" sz="2000" spc="-1" strike="noStrike">
              <a:solidFill>
                <a:srgbClr val="ffffff"/>
              </a:solidFill>
              <a:latin typeface="Tahoma"/>
            </a:endParaRPr>
          </a:p>
        </p:txBody>
      </p:sp>
      <p:sp>
        <p:nvSpPr>
          <p:cNvPr id="13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F569-E62E-4E86-AF8C-4E677F25172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a:t>
            </a:r>
            <a:endParaRPr b="0" lang="en-US" sz="4400" spc="-1" strike="noStrike">
              <a:solidFill>
                <a:srgbClr val="e5ffff"/>
              </a:solidFill>
              <a:latin typeface="Tahoma"/>
            </a:endParaRPr>
          </a:p>
        </p:txBody>
      </p:sp>
      <p:sp>
        <p:nvSpPr>
          <p:cNvPr id="46" name=""/>
          <p:cNvSpPr txBox="1"/>
          <p:nvPr/>
        </p:nvSpPr>
        <p:spPr>
          <a:xfrm>
            <a:off x="468360" y="1844640"/>
            <a:ext cx="8362800" cy="4114800"/>
          </a:xfrm>
          <a:prstGeom prst="rect">
            <a:avLst/>
          </a:prstGeom>
          <a:noFill/>
          <a:ln w="0">
            <a:noFill/>
          </a:ln>
        </p:spPr>
        <p:txBody>
          <a:bodyPr anchor="t">
            <a:normAutofit fontScale="90000"/>
          </a:bodyPr>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awki graniczne obejmują sumę dawek pochodzących od narażenia zewnętrznego i wewnętrznego.</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Dawki graniczne nie obejmują narażenia na promieniowanie naturalne</a:t>
            </a:r>
            <a:r>
              <a:rPr b="0" lang="pl-PL" sz="2000" spc="-1" strike="noStrike">
                <a:solidFill>
                  <a:srgbClr val="ffffff"/>
                </a:solidFill>
                <a:latin typeface="Tahoma"/>
              </a:rPr>
              <a:t>, jeżeli narażenie to nie zostało zwiększone w wyniku działalności człowieka.</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Dawek granicznych nie stosuje się do osób poddawanych działaniu promieniowania jonizującego w celach medycznych</a:t>
            </a:r>
            <a:r>
              <a:rPr b="0" lang="pl-PL" sz="2000" spc="-1" strike="noStrike">
                <a:solidFill>
                  <a:srgbClr val="ffffff"/>
                </a:solidFill>
                <a:latin typeface="Tahoma"/>
              </a:rPr>
              <a:t> (czyli pacjentów)</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Suma dawek promieniowania jonizującego dla pracowników oraz ogółu ludności, pochodzących od wszystkich rodzajów wykonywanej działalności łącznie, nie może, zastrzeżeniem art. 19 ust. 1 (narażenie szczególne) i art. 20 ust. 2 i 3 (narażenie wyjątkowe) ustawy Prawo atomowe, przekraczać dawek granicznych. </a:t>
            </a:r>
            <a:r>
              <a:rPr b="0" lang="pl-PL" sz="2000" spc="-1" strike="noStrike" u="sng">
                <a:solidFill>
                  <a:srgbClr val="ffffff"/>
                </a:solidFill>
                <a:uFillTx/>
                <a:latin typeface="Tahoma"/>
              </a:rPr>
              <a:t>Tylko sumę narażenia rutynowego i narażenia przypadkowego porównuje się z dawkami granicznymi.</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4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B20F-CA43-4257-80CE-871DB1F66B2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 – c.d.</a:t>
            </a:r>
            <a:endParaRPr b="0" lang="en-US" sz="4400" spc="-1" strike="noStrike">
              <a:solidFill>
                <a:srgbClr val="e5ffff"/>
              </a:solidFill>
              <a:latin typeface="Tahoma"/>
            </a:endParaRPr>
          </a:p>
        </p:txBody>
      </p:sp>
      <p:sp>
        <p:nvSpPr>
          <p:cNvPr id="50" name=""/>
          <p:cNvSpPr txBox="1"/>
          <p:nvPr/>
        </p:nvSpPr>
        <p:spPr>
          <a:xfrm>
            <a:off x="468360" y="1773360"/>
            <a:ext cx="8229600" cy="411480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zekroczenie którejkolwiek z dawek granicznych powoduje konieczność skierowania pracownika, </a:t>
            </a:r>
            <a:r>
              <a:rPr b="0" lang="pl-PL" sz="2000" spc="-1" strike="noStrike" u="sng">
                <a:solidFill>
                  <a:srgbClr val="ff0000"/>
                </a:solidFill>
                <a:uFillTx/>
                <a:latin typeface="Tahoma"/>
              </a:rPr>
              <a:t>przez kierownika jednostki organizacyjnej</a:t>
            </a:r>
            <a:r>
              <a:rPr b="0" lang="pl-PL" sz="2000" spc="-1" strike="noStrike">
                <a:solidFill>
                  <a:srgbClr val="ff0000"/>
                </a:solidFill>
                <a:latin typeface="Tahoma"/>
              </a:rPr>
              <a:t>, na badania lekarskie.</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alsza praca w warunkach narażenia wymaga zgody uprawnionego lekarza, który sprawuje nadzór medyczny nad tym pracownikiem.</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Brak powyższej zgody jest równoznaczny ze stwierdzeniem u pracownika objawów wskazujących na powstanie choroby zawodowej.</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awki otrzymane w wyniku narażenia szczególnego oraz wyjątkowego nie mogą być podstawą odsunięcia pracownika od dalszej pracy zawodowej bez jego zgody chyba, że uprawniony lekarz zdecyduje inaczej.</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Narażenie wyjątkowe</a:t>
            </a:r>
            <a:r>
              <a:rPr b="0" lang="pl-PL" sz="2000" spc="-1" strike="noStrike">
                <a:solidFill>
                  <a:srgbClr val="ffffff"/>
                </a:solidFill>
                <a:latin typeface="Tahoma"/>
              </a:rPr>
              <a:t>: awaria (</a:t>
            </a:r>
            <a:r>
              <a:rPr b="0" lang="pl-PL" sz="2000" spc="-1" strike="noStrike">
                <a:solidFill>
                  <a:srgbClr val="ff0000"/>
                </a:solidFill>
                <a:latin typeface="Tahoma"/>
              </a:rPr>
              <a:t>do 100 mSv</a:t>
            </a:r>
            <a:r>
              <a:rPr b="0" lang="pl-PL" sz="2000" spc="-1" strike="noStrike">
                <a:solidFill>
                  <a:srgbClr val="ffffff"/>
                </a:solidFill>
                <a:latin typeface="Tahoma"/>
              </a:rPr>
              <a:t>), ratowanie życia (</a:t>
            </a:r>
            <a:r>
              <a:rPr b="0" lang="pl-PL" sz="2000" spc="-1" strike="noStrike">
                <a:solidFill>
                  <a:srgbClr val="ff0000"/>
                </a:solidFill>
                <a:latin typeface="Tahoma"/>
              </a:rPr>
              <a:t>do 500 mSv</a:t>
            </a:r>
            <a:r>
              <a:rPr b="0" lang="pl-PL" sz="2000" spc="-1" strike="noStrike">
                <a:solidFill>
                  <a:srgbClr val="ffffff"/>
                </a:solidFill>
                <a:latin typeface="Tahoma"/>
              </a:rPr>
              <a:t>) - w tego typu zdarzeniach biorą udział jedynie ochotnicy</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E945-2F26-4072-A943-28592542724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380880"/>
            <a:ext cx="8569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tegorie narażenia pracowników</a:t>
            </a:r>
            <a:endParaRPr b="0" lang="en-US" sz="4400" spc="-1" strike="noStrike">
              <a:solidFill>
                <a:srgbClr val="e5ffff"/>
              </a:solidFill>
              <a:latin typeface="Tahoma"/>
            </a:endParaRPr>
          </a:p>
        </p:txBody>
      </p:sp>
      <p:sp>
        <p:nvSpPr>
          <p:cNvPr id="54" name=""/>
          <p:cNvSpPr txBox="1"/>
          <p:nvPr/>
        </p:nvSpPr>
        <p:spPr>
          <a:xfrm>
            <a:off x="468360" y="184464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Ustawa Prawo atomowe definiuje nam dawki graniczne od dołu poprzez wprowadzenie kategorii pracowników:</a:t>
            </a:r>
            <a:endParaRPr b="0" lang="en-US" sz="24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Kategoria A</a:t>
            </a:r>
            <a:r>
              <a:rPr b="0" lang="pl-PL" sz="2000" spc="-1" strike="noStrike">
                <a:solidFill>
                  <a:srgbClr val="ffffff"/>
                </a:solidFill>
                <a:latin typeface="Tahoma"/>
              </a:rPr>
              <a:t> – pracownicy, którzy mogą być narażeni na dawkę skuteczną </a:t>
            </a:r>
            <a:r>
              <a:rPr b="0" lang="pl-PL" sz="2000" spc="-1" strike="noStrike">
                <a:solidFill>
                  <a:srgbClr val="ff0000"/>
                </a:solidFill>
                <a:latin typeface="Tahoma"/>
              </a:rPr>
              <a:t>przekraczającą 6 mSv/rok </a:t>
            </a:r>
            <a:r>
              <a:rPr b="0" lang="pl-PL" sz="2000" spc="-1" strike="noStrike">
                <a:solidFill>
                  <a:srgbClr val="ffffff"/>
                </a:solidFill>
                <a:latin typeface="Tahoma"/>
              </a:rPr>
              <a:t>dawkę równoważną przekraczającą 15 mSv rocznie dla soczewek oczu lub 150 mSv rocznie dla skóry lub kończyn;</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Kategoria B</a:t>
            </a:r>
            <a:r>
              <a:rPr b="0" lang="pl-PL" sz="2000" spc="-1" strike="noStrike">
                <a:solidFill>
                  <a:srgbClr val="ffffff"/>
                </a:solidFill>
                <a:latin typeface="Tahoma"/>
              </a:rPr>
              <a:t> - kategorię B obejmującą pracowników, którzy nie zostali zaliczeni do kategorii A.</a:t>
            </a:r>
            <a:endParaRPr b="0" lang="en-US" sz="20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Dodatkowo załącznik nr 4 do ustawy definiuje nam dawki graniczne od góry</a:t>
            </a:r>
            <a:endParaRPr b="0" lang="en-US" sz="24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6"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DE7B-F048-4739-8D06-6DDDE0AA5FF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tegorie pracowników – c.d.</a:t>
            </a:r>
            <a:endParaRPr b="0" lang="en-US" sz="4400" spc="-1" strike="noStrike">
              <a:solidFill>
                <a:srgbClr val="e5ffff"/>
              </a:solidFill>
              <a:latin typeface="Tahoma"/>
            </a:endParaRPr>
          </a:p>
        </p:txBody>
      </p:sp>
      <p:sp>
        <p:nvSpPr>
          <p:cNvPr id="58" name=""/>
          <p:cNvSpPr txBox="1"/>
          <p:nvPr/>
        </p:nvSpPr>
        <p:spPr>
          <a:xfrm>
            <a:off x="468360" y="1773360"/>
            <a:ext cx="8229600" cy="4114800"/>
          </a:xfrm>
          <a:prstGeom prst="rect">
            <a:avLst/>
          </a:prstGeom>
          <a:noFill/>
          <a:ln w="0">
            <a:noFill/>
          </a:ln>
        </p:spPr>
        <p:txBody>
          <a:bodyPr anchor="t">
            <a:normAutofit fontScale="85000"/>
          </a:bodyPr>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A podlegają ocenie narażenia na podstawie pomiarów dawek indywidualnych</a:t>
            </a:r>
            <a:r>
              <a:rPr b="0" lang="pl-PL" sz="2000" spc="-1" strike="noStrike">
                <a:solidFill>
                  <a:srgbClr val="ffffff"/>
                </a:solidFill>
                <a:latin typeface="Tahoma"/>
              </a:rPr>
              <a:t>. W przypadku, gdy pomiar dawki indywidualnej jest niemożliwy lub niewłaściwy, ocena dawki indywidualnej może być dokonana na podstawie wyników pomiarów dawek indywidualnych przeprowadzonych dla innych narażonych pracowników tej kategorii albo na podstawie wyników pomiarów dozymetrycznych w środowisku pracy.</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B podlegają ocenie narażenia na podstawie pomiarów dozymetrycznych w środowisku pracy </a:t>
            </a:r>
            <a:r>
              <a:rPr b="0" lang="pl-PL" sz="2000" spc="-1" strike="noStrike">
                <a:solidFill>
                  <a:srgbClr val="ffffff"/>
                </a:solidFill>
                <a:latin typeface="Tahoma"/>
              </a:rPr>
              <a:t>w sposób pozwalający stwierdzić prawidłowość zaliczenia pracowników do tej kategorii. </a:t>
            </a:r>
            <a:r>
              <a:rPr b="0" lang="pl-PL" sz="2000" spc="-1" strike="noStrike">
                <a:solidFill>
                  <a:srgbClr val="ff0000"/>
                </a:solidFill>
                <a:latin typeface="Tahoma"/>
              </a:rPr>
              <a:t>Zezwolenie na działalność może zawierać </a:t>
            </a:r>
            <a:r>
              <a:rPr b="0" lang="pl-PL" sz="2000" spc="-1" strike="noStrike" u="sng">
                <a:solidFill>
                  <a:srgbClr val="ff0000"/>
                </a:solidFill>
                <a:uFillTx/>
                <a:latin typeface="Tahoma"/>
              </a:rPr>
              <a:t>obowiązek</a:t>
            </a:r>
            <a:r>
              <a:rPr b="0" lang="pl-PL" sz="2000" spc="-1" strike="noStrike">
                <a:solidFill>
                  <a:srgbClr val="ff0000"/>
                </a:solidFill>
                <a:latin typeface="Tahoma"/>
              </a:rPr>
              <a:t> oceny narażenia na podstawie pomiarów dawek indywidualnych dla kat. B – i bardzo często tak się dzieje (np. w rentgenodiagnostyce)</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Zaliczenia pracowników do kategorii A lub B dokonuje kierownik jednostki organizacyjnej</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0"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9EF6-1D55-4983-BE1A-78AE40CFB67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Typy narażenia</a:t>
            </a:r>
            <a:endParaRPr b="0" lang="en-US" sz="4400" spc="-1" strike="noStrike">
              <a:solidFill>
                <a:srgbClr val="e5ffff"/>
              </a:solidFill>
              <a:latin typeface="Tahoma"/>
            </a:endParaRPr>
          </a:p>
        </p:txBody>
      </p:sp>
      <p:sp>
        <p:nvSpPr>
          <p:cNvPr id="62"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narażenie rutynowe </a:t>
            </a:r>
            <a:r>
              <a:rPr b="0" lang="pl-PL" sz="2400" spc="-1" strike="noStrike">
                <a:solidFill>
                  <a:srgbClr val="ffffff"/>
                </a:solidFill>
                <a:latin typeface="Tahoma"/>
              </a:rPr>
              <a:t>– narażenie powstałe w wyniku wykonywania rutynowych czynności,</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narażenie przypadkowe </a:t>
            </a:r>
            <a:r>
              <a:rPr b="0" lang="pl-PL" sz="2400" spc="-1" strike="noStrike">
                <a:solidFill>
                  <a:srgbClr val="ffffff"/>
                </a:solidFill>
                <a:latin typeface="Tahoma"/>
              </a:rPr>
              <a:t>– narażenie powstałe na skutek przypadku, nie dotyczy narażenia wyjątkowego</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narażenie szczególne </a:t>
            </a:r>
            <a:r>
              <a:rPr b="0" lang="pl-PL" sz="2400" spc="-1" strike="noStrike">
                <a:solidFill>
                  <a:srgbClr val="ffffff"/>
                </a:solidFill>
                <a:latin typeface="Tahoma"/>
              </a:rPr>
              <a:t>– narażenie powstałe w szczególnych przypadkach, z wyłączeniem zdarzeń radiacyjnych – narażenie spowodowane wykonywaniem określonego zadania w określonym miejscu pracy i w określonym czasie przez pracowników kategorii A za ich zgodą i za zgodą Prezesa PAA – nie mają tutaj zastosowania dawki graniczne</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4"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8F43-BBE4-446C-94B6-3D6F746E852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Narażenie wyjątkowe</a:t>
            </a:r>
            <a:endParaRPr b="0" lang="en-US" sz="4400" spc="-1" strike="noStrike">
              <a:solidFill>
                <a:srgbClr val="e5ffff"/>
              </a:solidFill>
              <a:latin typeface="Tahoma"/>
            </a:endParaRPr>
          </a:p>
        </p:txBody>
      </p:sp>
      <p:sp>
        <p:nvSpPr>
          <p:cNvPr id="66" name=""/>
          <p:cNvSpPr txBox="1"/>
          <p:nvPr/>
        </p:nvSpPr>
        <p:spPr>
          <a:xfrm>
            <a:off x="468360" y="1844640"/>
            <a:ext cx="8229600" cy="411480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rażenie powstałe podczas usuwania skutków zdarzenia radiacyjnego lub prowadzenia działań interwencyjnych mających na celu:</a:t>
            </a:r>
            <a:endParaRPr b="0" lang="en-US" sz="20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ratowanie życia ludzkiego,</a:t>
            </a:r>
            <a:endParaRPr b="0" lang="en-US" sz="16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zapobieżenie poważnej utracie zdrowia,</a:t>
            </a:r>
            <a:endParaRPr b="0" lang="en-US" sz="16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uniknięcie dużego napromieniowania znacznej liczny osób,</a:t>
            </a:r>
            <a:endParaRPr b="0" lang="en-US" sz="16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zapobieżenie katastrofie na większą skalę</a:t>
            </a:r>
            <a:endParaRPr b="0" lang="en-US" sz="16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ie mają tutaj zastosowania dawki graniczne; należy jednak dołożyć wszelkich starań, żeby osoba uczestnicząca w ratowaniu życia ludzkiego nie otrzymała dawki efektywnej przekraczającej </a:t>
            </a:r>
            <a:r>
              <a:rPr b="0" lang="pl-PL" sz="2000" spc="-1" strike="noStrike">
                <a:solidFill>
                  <a:srgbClr val="ff0000"/>
                </a:solidFill>
                <a:latin typeface="Tahoma"/>
              </a:rPr>
              <a:t>500 mSv</a:t>
            </a:r>
            <a:r>
              <a:rPr b="0" lang="pl-PL" sz="2000" spc="-1" strike="noStrike">
                <a:solidFill>
                  <a:srgbClr val="ffffff"/>
                </a:solidFill>
                <a:latin typeface="Tahoma"/>
              </a:rPr>
              <a:t>, a w pozostałych działaniach – </a:t>
            </a:r>
            <a:r>
              <a:rPr b="0" lang="pl-PL" sz="2000" spc="-1" strike="noStrike">
                <a:solidFill>
                  <a:srgbClr val="ff0000"/>
                </a:solidFill>
                <a:latin typeface="Tahoma"/>
              </a:rPr>
              <a:t>100 mSv</a:t>
            </a:r>
            <a:r>
              <a:rPr b="0" lang="pl-PL" sz="2000" spc="-1" strike="noStrike">
                <a:solidFill>
                  <a:srgbClr val="ffffff"/>
                </a:solidFill>
                <a:latin typeface="Tahoma"/>
              </a:rPr>
              <a:t>. Osobami podejmującymi powyższe działania, mogą być wyłącznie ochotnicy poinformowani wcześniej o związanym z ich działaniem ryzyku dla zdrowia</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D2FD-1069-44BB-B934-5BE7658B945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0"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7D7B-50A7-4380-8191-BB4BA5256A1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71" name="PlaceHolder 1"/>
          <p:cNvSpPr>
            <a:spLocks noGrp="1"/>
          </p:cNvSpPr>
          <p:nvPr>
            <p:ph type="title"/>
          </p:nvPr>
        </p:nvSpPr>
        <p:spPr>
          <a:xfrm>
            <a:off x="0" y="1522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 </a:t>
            </a:r>
            <a:br>
              <a:rPr sz="4400"/>
            </a:br>
            <a:r>
              <a:rPr b="0" lang="pl-PL" sz="4400" spc="-1" strike="noStrike">
                <a:solidFill>
                  <a:srgbClr val="e5ffff"/>
                </a:solidFill>
                <a:latin typeface="Tahoma"/>
              </a:rPr>
              <a:t>– kompleksowe zestawienie</a:t>
            </a:r>
            <a:br>
              <a:rPr sz="4400"/>
            </a:br>
            <a:r>
              <a:rPr b="0" lang="pl-PL" sz="1800" spc="-1" strike="noStrike">
                <a:solidFill>
                  <a:srgbClr val="ff0000"/>
                </a:solidFill>
                <a:latin typeface="Tahoma"/>
              </a:rPr>
              <a:t>dla źródeł sztucznych poza medycznych</a:t>
            </a:r>
            <a:endParaRPr b="0" lang="en-US" sz="1800" spc="-1" strike="noStrike">
              <a:solidFill>
                <a:srgbClr val="e5ffff"/>
              </a:solidFill>
              <a:latin typeface="Tahoma"/>
            </a:endParaRPr>
          </a:p>
        </p:txBody>
      </p:sp>
      <p:pic>
        <p:nvPicPr>
          <p:cNvPr id="72" name="Obraz 1" descr=""/>
          <p:cNvPicPr/>
          <p:nvPr/>
        </p:nvPicPr>
        <p:blipFill>
          <a:blip r:embed="rId1"/>
          <a:stretch/>
        </p:blipFill>
        <p:spPr>
          <a:xfrm>
            <a:off x="0" y="1903320"/>
            <a:ext cx="9144000" cy="43419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9:14:28Z</dcterms:created>
  <dc:creator>Krzysiek</dc:creator>
  <dc:description/>
  <dc:language>en-US</dc:language>
  <cp:lastModifiedBy>1</cp:lastModifiedBy>
  <dcterms:modified xsi:type="dcterms:W3CDTF">2022-03-26T21:48:23Z</dcterms:modified>
  <cp:revision>76</cp:revision>
  <dc:subject/>
  <dc:title>PowerPoint Presentation</dc:title>
</cp:coreProperties>
</file>